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CA5-3DCE-4A58-9405-72F5B6DE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6438-76F1-474D-A411-697AECF8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9B8-9D88-468B-8A6C-6EE7E7E5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6223-F356-4EA8-9627-1532E5C9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D36-0B7B-45D1-9F19-CF5454C9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4E5C-C6A5-4523-A672-8F37E1C4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BDC7-55DD-4ACA-987C-5BE28353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F26-970A-4032-B23E-9438064F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965-6D35-47C0-A2FA-7C740E1E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9E5-1CA6-4453-A368-2B64DD22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B7B-87F0-4624-800D-F4707C03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D51-A1FB-4929-977B-0B58682A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FA59-722D-4ED9-9BB2-CA30F0B18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إيحاء الله إلى رجل من البشر أمر موافق للحكمة لا محل استغراب وتعج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2556000" y="981000"/>
            <a:ext cx="6386400" cy="660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4"/>
          <a:stretch/>
        </p:blipFill>
        <p:spPr>
          <a:xfrm>
            <a:off x="968400" y="3141720"/>
            <a:ext cx="7948440" cy="639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5"/>
          <a:stretch/>
        </p:blipFill>
        <p:spPr>
          <a:xfrm>
            <a:off x="1547640" y="1700280"/>
            <a:ext cx="72723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952720" y="5229360"/>
            <a:ext cx="3238560" cy="59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844640"/>
            <a:ext cx="86648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أعلم بمراده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062080" y="981000"/>
            <a:ext cx="67010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43000" y="1989000"/>
            <a:ext cx="865008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3357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43000" y="422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رسل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ب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رسول دج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-15840" y="866880"/>
            <a:ext cx="9159840" cy="90648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3059280" y="104760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قرآن الكريم كتاب محكم واضح م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ما اشتمل عليه من حلال وحرام وحدود وأحك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يحاء الله إلى رجل من البشر أم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وافق للحكمة لا محل استغراب وتع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بوة محمد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شرى أهل الإيمان والعمل الصال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ما أعد الله لهم من النع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دة تعجب العرب من بلاغة وفصا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رآن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صف المشركون القرآن الكريم ب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سح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642160" cy="424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8172360" y="351792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5"/>
          <a:stretch/>
        </p:blipFill>
        <p:spPr>
          <a:xfrm>
            <a:off x="8172360" y="445464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6"/>
          <a:stretch/>
        </p:blipFill>
        <p:spPr>
          <a:xfrm>
            <a:off x="2195640" y="2421000"/>
            <a:ext cx="533160" cy="55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7"/>
          <a:stretch/>
        </p:blipFill>
        <p:spPr>
          <a:xfrm>
            <a:off x="2166840" y="4508640"/>
            <a:ext cx="5335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5:29:29Z</dcterms:modified>
  <cp:revision>1888</cp:revision>
  <dc:subject/>
  <dc:title>عرض تقديمي في PowerPoint</dc:title>
</cp:coreProperties>
</file>